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7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3.png" ContentType="image/png"/>
  <Override PartName="/ppt/media/click.wav" ContentType="audio/x-wav"/>
  <Override PartName="/ppt/media/hammer.wav" ContentType="audio/x-wav"/>
  <Override PartName="/ppt/media/image12.jpeg" ContentType="image/jpeg"/>
  <Override PartName="/ppt/media/image6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075-5391-48D9-BE18-E26A4164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64A-993C-4953-8F6A-A7E248D5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FE7-088F-4F51-BE79-569A34BD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4B5-6EAE-4C9B-B7C8-746C1929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CEBE-1876-4461-AB2C-F55F63E3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8B99-945A-495B-8047-B8DCF545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6DEB-1727-4798-A3BA-EAEF93B8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EB0E-1354-4569-9029-3AA062C7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0551-A444-40DF-9DD3-2672C99C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29D0-2D9F-4FB6-BDBA-25C39332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7B43-A564-419F-922D-EAA3E8D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8D9-00A2-4926-9B77-76D7E46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6C41-D0C9-4F51-B670-8D509FF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D6ED-C222-4E17-91A7-C517BF3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DA33-3C06-421A-B497-56A59206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5A80-7432-4439-BBE8-8E72F37D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4510-242F-4E78-95C3-8E3D4FE6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9956-F8C4-425A-86B4-BF1C418E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C698F-7510-465B-B2B0-65435184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CFE6-AB67-4A55-A25E-86ED11D9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DB30-8377-43E6-B154-EC17FA09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04B2-32BC-4521-8B02-3CA242CE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8AF-57E3-45C1-A096-0615BC07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5F94-47D2-410B-B1CC-21D64DC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A422E-EE7C-4172-BFC1-C767F58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C7A6-B9BB-480F-B747-E992A46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2B66-E5E0-4DA3-9369-9C954244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2CFC-06CF-46FE-A0DF-36807AF6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4CCB-0A55-4A82-8B87-FEC05B58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CF21-4516-47AB-A17F-9CC2B358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706F-0D05-42D0-BE96-FC83EAF8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4B4E-F87B-447F-8D7E-F1F209B0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D982-F240-4B95-AE8A-E1193C7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A6E-C0A0-4519-B85E-5F3DC2FC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0C98-D82C-4C32-A448-EA1A4EA0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72B94-9809-486C-8FF4-71FCB03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0221-B300-47C0-A6E0-8A839E45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14B6-DD1A-47D0-9F13-E845071E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DCBD-E7B0-4DFF-828D-FE9D33E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D24E-B888-48B5-8A75-C01E593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7412-E1D2-4A6B-9CF5-2CA55FF9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5249-107B-4FC0-BA3A-BF0C319F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692F-C60D-457F-A84C-D77BC86B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3B7-5FC8-4841-BFFB-24602B98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3E8-3239-4A9F-935A-D3655755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8E4-4273-4F80-9ACF-30808F7F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2F0-EA6E-441B-9083-96D3185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069-D833-4CBC-A8CD-07ECFE3F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C242-E5C6-4FD9-AB11-36E7F0DDCB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9851-57C1-49CF-A2F4-ED2C1118DF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6E74-A5D7-4088-BF46-9A0BF443F82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4EED-6203-41E7-AF26-D653F017EBB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action.vogate.com/click/click.php?ads_id=1779&amp;site_id=6235007045036833&amp;click=1&amp;url=http%3A//www.vogate.com/emc.php&amp;v=0&amp;k=%25u6700%25u5927&amp;s=http%3A//www.ztbh.cn/Article/sucai/rensheng/35350.html&amp;rn=325317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11341080" cy="9923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1042920" y="836640"/>
            <a:ext cx="7632720" cy="27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要长成一颗珍珠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0573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00712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怀着理想，脚踏实地地实现它，抓住每个学习的机会，不怕苦，不怕累，一如既往地最求，不论身处顺境还是逆境，不管聪明还是一般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-12528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9528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其实，我们每个同学是成为珍珠的材料，我们都已经具备了这个条件，关键是你能否忍耐、坚持、奋斗。当走过黑暗与苦难的长长的隧道之后，你会惊讶地发现，平凡如沙粒的你，不知不觉中，已长成一颗珍珠了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576360" y="0"/>
            <a:ext cx="9720360" cy="7966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916360" y="3068640"/>
            <a:ext cx="865080" cy="3668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41040" y="952560"/>
            <a:ext cx="14601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只要横下一条心，一步一个脚印，沿着勤、苦这条天梯，不回头，不动摇，就能达到你心中的高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870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50436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43280" y="68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360" y="11174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17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936360" cy="77025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68360" y="501336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请同学们用你手上的笔描绘出你想要的未来和中段考目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824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8019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6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55280" y="4436640"/>
            <a:ext cx="7272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年后的你会是个 怎样的一个景况？你渴望有一个美好的未来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老师演示物品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瓶沙砾，一串闪闪发光的珍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328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会选择变成哪一种？是珍珠还是沙砾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44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-468360" y="-1539720"/>
            <a:ext cx="11409480" cy="9704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55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"/>
              </a:rPr>
              <a:t>长成一颗珍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"/>
              </a:rPr>
              <a:t>很久很久以前，有一个养蚌人，他想培养一颗</a:t>
            </a:r>
            <a:r>
              <a:rPr b="0" lang="zh-CN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最大</a:t>
            </a:r>
            <a:r>
              <a:rPr b="0" lang="zh-CN" sz="2400" spc="-1" strike="noStrike">
                <a:solidFill>
                  <a:srgbClr val="99ff66"/>
                </a:solidFill>
                <a:latin typeface="Arial"/>
              </a:rPr>
              <a:t>最美的珍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"/>
              </a:rPr>
              <a:t>他去海边沙滩上挑选沙粒，并且一颗一颗地问那些沙粒，愿不愿意变成一颗珍珠。那些沙粒一颗一颗都摇头说不愿意。养蚌人从清晨问到黄昏，他都快要绝望了。就在这时，有一颗沙粒答应了他。旁边的沙粒都嘲笑起那颗沙粒，说它太傻，去蚌壳里住，远离亲人、朋友，见不到阳光、雨露、明月、清风，甚至还缺少空气，只能与黑暗、潮湿、寒冷、孤寂为伍，不值得。可那颗沙粒还是无怨无悔地随着养蚌人去了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"/>
              </a:rPr>
              <a:t>斗转星移，许多年过去了，那颗沙粒已长成了一颗晶莹剔透、价值连城的珍珠，而曾经嘲笑它傻的那些伙伴，却依然只是一堆沙粒，有的已风化成土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10108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 rot="5400000">
            <a:off x="6871680" y="1012680"/>
            <a:ext cx="3284640" cy="125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6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通过故事讲道理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1587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685440" cy="7743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26920" y="260280"/>
            <a:ext cx="8007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完这个故事后，你有什么感想？和同学们一起分享一下你的收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77840" y="342900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宝剑锋从磨砺出，梅花香自苦寒来。只有经历磨练，我们才知道成功的不易；只有知道了成功的不易，我们才会更加努力地追求，最终获得成功。正如文中的沙子一样，众人的非议，恶劣的环境，正是磨练自己的机会。我们只有像沙子那样弃掉一切杂念，一如既往地追求自己的理想，才能获得成功，获得属于自己的那份胜利者的喜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214200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沙粒和珍珠，现在它们是那么的不同，但是，原本它们都是一样的，甚是可能躺在同一个海滩上冲过海浪，晒过太阳，但是有的砂粒有着变为珍珠的理想，而有的却只是安于现象，得过且过。每个人都渴望成功，担不是每一个渴望成功的人都愿意为之付出艰苦的努力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0071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一个学生，我们要想成为一颗珍珠，成为一个有价值的人，只有一条路径可行，那就是努力学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3860640"/>
            <a:ext cx="727236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Arial"/>
              </a:rPr>
              <a:t>但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的同学却总觉得学习是件苦事，甚至厌恶学习，这样能成为你心中的“珍珠”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4360" y="2637000"/>
            <a:ext cx="20574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班级情况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-304920" y="-324000"/>
            <a:ext cx="9753840" cy="7506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寓言《点石成金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从前，有个阿拉伯商人，他每天深夜就要起床，到很远的地方去进货。十年如一日，从不间断，他常想：要是能点石成金该多好啊！有一天，他像以往一样赶夜路，走着走着听到有一个声音对他说：“捡起一些石头来，放进你的行囊。”他很诧异，但还是照着做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过不多时，同一个声音又响起来了，于是他又捡起了一些不大的石头。这样反复了几次，他的行囊越来越沉了，行走越来越吃力，他恼火起来，对冥冥中发着牢骚，最后，他不顾那个声音的告诫，扔掉了几乎所有的石头，只勉强留下了一些很小的石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这时，他轻快多了。天亮了，他快步赶往集市，当他打开行囊时，他惊呆了，那些小石子都变成金子了，这时，他是多么后悔啊。这样的机会以后再也没有出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5035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4360" y="3573360"/>
            <a:ext cx="7991280" cy="1943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抓住现在学习时间，多在头脑中放些知识，今天锻炼了自己的能力，就是明天成功的基石。 今天一切的辛苦会换来以后成功的喜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1125360"/>
            <a:ext cx="8007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看完这个故事后，你有什么感想？和同学们一起分享一下你的收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10514160" cy="73152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22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是，同学中总有这样的一种想法：他们认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这么聪明，哪用得着这么费劲呢？什么刻苦努力，那都是笨人的专利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3860640"/>
            <a:ext cx="655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请欣赏小品《一个天才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5571000"/>
            <a:ext cx="6659640" cy="58140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一个人光有先天的智慧而不注重后天的学习是不行的，不注意接受新知识，到头来只会落在别人后面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404640"/>
            <a:ext cx="2057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班级情况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Ba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5:12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37:06Z</dcterms:modified>
  <cp:revision>47</cp:revision>
  <dc:subject>主题班会课件(分28大类): http://shop62905894.taobao.com</dc:subject>
  <dc:title>主题班会课件(分28大类): http://shop62905894.taobao.com</dc:title>
</cp:coreProperties>
</file>